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2320" y="-12600"/>
            <a:ext cx="10180800" cy="76374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ne Frank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855720" y="1085760"/>
            <a:ext cx="86677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pite of everything, I still believe that people are really good at heart. I simply can't build up my hopes on a foundation consisting of confusion, misery, and death. I see the world gradually being turned into a wilderness, I hear the ever approaching thunder, which will destroy us too, I can feel the sufferings of millions and yet, if I look up into the heavens, I think that it will all come right, that this cruelty too will end, and that peace and tranquility will return again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ne Frank, 1944</a:t>
            </a:r>
            <a:endParaRPr b="0" lang="en-US" sz="2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do you know about Anne Frank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Text Box 14">
            <a:hlinkClick r:id="" action="ppaction://hlinkshowjump?jump=nextslide"/>
          </p:cNvPr>
          <p:cNvSpPr/>
          <p:nvPr/>
        </p:nvSpPr>
        <p:spPr>
          <a:xfrm>
            <a:off x="652320" y="1008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Text Box 14">
            <a:hlinkClick r:id="" action="ppaction://hlinkshowjump?jump=nextslide"/>
          </p:cNvPr>
          <p:cNvSpPr/>
          <p:nvPr/>
        </p:nvSpPr>
        <p:spPr>
          <a:xfrm>
            <a:off x="8298000" y="39798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cp:keywords/>
  <dc:language>en-US</dc:language>
  <cp:lastModifiedBy>Sacerdote, Kevin R.</cp:lastModifiedBy>
  <dcterms:modified xsi:type="dcterms:W3CDTF">2016-01-22T18:56:1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